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02B-0B24-4F15-8588-2C629DBC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F7A-09B4-4127-917A-38ED3055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661-A0AD-4DF1-A447-B4AA1697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FA8-277A-4AE7-8EEE-4CAEE31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096A-4A0B-4602-BC21-69D9372E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FD5F-48B8-4BF0-B561-C707F507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AE7A-3488-4670-965B-632BB38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1F4A-04A1-43D4-8789-B84B249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07E-85D9-407F-9C1E-8C878360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8C6-9AB8-4ABE-9B1D-7B2AB0C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E16-DEB6-4777-9ED9-6B6B7997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71C-A8DF-4EDA-A27F-DC302C0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BC1F-1E79-44F9-ADD9-DBDA08F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CA5-9939-4CED-92E9-40385ED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FBC2-B531-4502-BE14-B9E0BF0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AC6-75D8-4250-8E48-8AAA9BF9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6DB-57DF-4574-AA08-FF1AC21F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841-9B70-4D0F-A26F-133F29B2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F8E-7472-408C-8505-ADC9A377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43F-9508-447A-B906-F299AF9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05E-5FA9-4612-8EB8-2096778B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963-1281-4F6B-9FB5-B20835C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F61-A6E4-4E25-953C-35A88F0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FDF-A161-4A11-AC31-7056944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80CA-8AD7-46F1-A539-7E7CA787F48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F10-2B70-4FF8-892B-F1E38252F95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Technik%20der%20W&#228;rmepumpe%20-%20Video%20..............................mp4" TargetMode="External"/><Relationship Id="rId3" Type="http://schemas.openxmlformats.org/officeDocument/2006/relationships/hyperlink" Target="file:///F:/Technik%20der%20W&#228;rmepumpe%20-%20Video%20..............................mp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5ffff"/>
                </a:solidFill>
                <a:uFillTx/>
                <a:latin typeface="Arial"/>
              </a:rPr>
              <a:t>Wärmepumpenanlag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eressourcen scho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at von Daniel 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 – Technik 10/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1.04.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3 Wärmequelle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Grundwass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 wird über Förderpumpe angepum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rück über Schluckbrun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Sommer passive Kühlung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her Planungsauf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d, Hilfs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ch Pum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hnenswert eher fü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ße Objekte mit ho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z- und Kühlbeda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037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6.4 Wärmequelle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Luf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facher Anschluss, fast überall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Bohrungen nöt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Öftere Anwendung bei Altbausanier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m Winter weni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zient da k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nstanten Tem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herer Stromve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ra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rch gering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uaufwand Kosten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par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446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7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tionsprinzip ähnlich wie Kühlschra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ühlschrank entzieht dem Innenraum die Wär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e entzieht dem Außenbereich Wärme, gibt sie nach innen weiter (umgekeh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5% kostenlose Umweltwärme + 25% Antriebsener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n auch als Kühlung genutzt wer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3047760" cy="2208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09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8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er wesentliche Prozess der Wärmepumpe besteht darin, dass ein Arbeitsmedium (Kältemittel) in einem ständigen Kreislauf seinen Aggregatzustand (flüssig bzw. gasförmig) ändert und Wärme aufnimmt bzw. abgibt. </a:t>
            </a: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Der Wärmepumpen-Kreisprozess folgt im wesentlichen dem Carnot – Proz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4365720"/>
            <a:ext cx="5667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9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Temperatur- und Druckänderung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im Kreislau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546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0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ie Kältemit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, R 407 C, und Pro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Es werden Stoffe verwendet, die bei niedrigen Temp. verdampf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leichzeitig besitzen sie eine hohe innere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ur Clor-freie Kältemittel zugel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 und R 407 C unbrennbar und nicht gif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ei der Verwendung von Propan gelten Einschränkungen und Aufstellungsrichtlinien der Anl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1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as Kälteverfahren – Carl Li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flüssigung von 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ft wird komprimi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ckgefälle führt zu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kühlung des G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 unter 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depunk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wird flüss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367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1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ampf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3546000"/>
            <a:ext cx="7654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beitsmedium (Kältemitt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zieht so der Umwelt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gebungstemperatur kan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chaus -15°C bet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04000" y="3500280"/>
            <a:ext cx="167472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3384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2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ich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3499920"/>
            <a:ext cx="73548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es Kältemittel wird angesau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pf wird verdich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it steigen Druck 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 des Medi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185256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3527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ffff"/>
                </a:solidFill>
                <a:latin typeface="Arial"/>
              </a:rPr>
              <a:t>12.3 </a:t>
            </a:r>
            <a:r>
              <a:rPr b="1" lang="de-DE" sz="4400" spc="-1" strike="noStrike" u="sng">
                <a:solidFill>
                  <a:srgbClr val="e5ffff"/>
                </a:solidFill>
                <a:uFillTx/>
                <a:latin typeface="Arial"/>
              </a:rPr>
              <a:t>Verflüssig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800244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as gasförmige Arbeitsmedium gelangt in den Verflüssi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Umgeben vom kälteren Heiz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ser (Wärmetausc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rbeitsmedium kühlt ab u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erflüssigt s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eizwasser wird erwärmt, 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s kälter ist als das Arbeitsmed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31669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Inhalt des Refer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samt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qu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uartengegenüberstellung pro/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nbeschaffenh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dwärmequellenanlagen (Bauar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 Kreisproz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- und Druckänderung im Kreisla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mit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verfahren nach Carl Li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Komponenten der 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nutzungsanl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ücke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llenanga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4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Expansionsventi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32846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entspan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her Druck -&gt; niedriger Dr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langt von dort wieder in 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damp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33208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384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1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Wärmenutzungsanl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Fußbodenheizung da geringe Vor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Altbau benötigte Vorlauftemp.:   5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ubau benötigte Vorlauftemp.: 3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Monovalent und Bivalent einsetz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zB Gas- , Öl- oder Solaranl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4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Lückentext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211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1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Quellenangab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umweltundtechnik.de/index.php?id=17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ochsner.de/die-waermepumpe/funktionsweise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weishaupt.de/mainAktion/mnAktion5/index.html/media?film=http://www.energiespar-center.info/media/wwp-tech_de.wmv&amp;width=350&amp;height=3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effiziento.de/erdwaermepumpe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de.wikipedia.org/wiki/Carl_von_Linde#Linde-Verfah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Gesamt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quellenanla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B.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pum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nutzungsan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ie Heiz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2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quel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rd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arten z.B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Grundwas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48000" y="4005360"/>
            <a:ext cx="28083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n Vid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F:\Technik</a:t>
            </a: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der Wärmepumpe - Video ..............................mp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36572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http://www.youtube.com/watch?v=ZSVI5lekE4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4. </a:t>
            </a:r>
            <a:r>
              <a:rPr b="1" lang="de-DE" sz="4000" spc="-1" strike="noStrike" u="sng">
                <a:solidFill>
                  <a:srgbClr val="e5ffff"/>
                </a:solidFill>
                <a:uFillTx/>
                <a:latin typeface="Arial"/>
              </a:rPr>
              <a:t>Bauartengegenüberstellung</a:t>
            </a:r>
            <a:br>
              <a:rPr sz="4000"/>
            </a:br>
            <a:r>
              <a:rPr b="1" lang="de-DE" sz="4000" spc="-1" strike="noStrike">
                <a:solidFill>
                  <a:srgbClr val="008000"/>
                </a:solidFill>
                <a:latin typeface="Arial"/>
              </a:rPr>
              <a:t>Vor </a:t>
            </a: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– bzw </a:t>
            </a: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Nachte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920" y="1844640"/>
          <a:ext cx="9074160" cy="5097600"/>
        </p:xfrm>
        <a:graphic>
          <a:graphicData uri="http://schemas.openxmlformats.org/drawingml/2006/table">
            <a:tbl>
              <a:tblPr/>
              <a:tblGrid>
                <a:gridCol w="2305080"/>
                <a:gridCol w="2087640"/>
                <a:gridCol w="2305080"/>
                <a:gridCol w="2376360"/>
              </a:tblGrid>
              <a:tr h="59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reich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f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sond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ächen-kollekt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örderpump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ßenluft-anl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eringer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latzbedar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an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ünstiger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schaff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s Erdso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.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ann nahez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überall genutz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we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e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rd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lanungsaufwand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   Investitionskos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Erdreich-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ilfsenerg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urch Pump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Lohnenswe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bei gr. Objek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Niedrige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m W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öhere Heizko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Bodenbeschaffenhe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81080"/>
          <a:ext cx="8785440" cy="46324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den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zugsleistung Flächenkollek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2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– 2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3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führend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– 3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1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so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kale Erdwärmeso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inger Platzbeda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hrtiefe bei Einfamilienhäusern ca. 1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Winter pas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ühlung mögl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S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221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2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kollek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agerechtes großflächiges Rohr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egung unterhalb der Frostgrenze 1-1.5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-250m² Kollektorenfläche für Einfamilienh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äche kann nich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aut werden, 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 Boden Re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Sonnenstrah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fnehmen mu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0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1:46Z</dcterms:created>
  <dc:creator>Nimmerjahn</dc:creator>
  <dc:description/>
  <dc:language>en-US</dc:language>
  <cp:lastModifiedBy>Nimmerjahn</cp:lastModifiedBy>
  <dcterms:modified xsi:type="dcterms:W3CDTF">2011-04-29T12:18:55Z</dcterms:modified>
  <cp:revision>17</cp:revision>
  <dc:subject/>
  <dc:title>Wärmepumpenanlage</dc:title>
</cp:coreProperties>
</file>